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C1C87-77A9-45A1-A621-60F0017F8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F5C41-6687-452D-A259-46E2C2737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2D61D-94BB-4671-BECE-C64BCE702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5D089-17FA-48EA-BB78-6277AD0DE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A7641-3816-48B8-A8AA-940E5D6DA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5CDE8-2744-4C58-BDA8-401EE0DDF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81311-DCE2-4239-BCFC-0D6AE82C3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C2F9B-73A7-44CA-BCCF-8B61FCAFE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DFDE9-BC79-4026-8A27-276819F5C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35604-AFFE-4481-8B94-2FF68200D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3E243-4C32-4E21-A847-A9C904FF1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DEF7F-A28A-4190-A854-C46F55538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99285-D2A2-4C04-A95B-3CFE0CD9AF30}"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96640"/>
            <a:ext cx="7772400" cy="33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Manufacturing Industry</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98989"/>
                </a:solidFill>
                <a:latin typeface="Calibri"/>
              </a:rPr>
              <a:t>South Wa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uth Wales</a:t>
            </a:r>
            <a:endParaRPr b="0" lang="en-US" sz="4400" spc="-1" strike="noStrike">
              <a:solidFill>
                <a:srgbClr val="000000"/>
              </a:solidFill>
              <a:latin typeface="Calibri"/>
            </a:endParaRPr>
          </a:p>
        </p:txBody>
      </p:sp>
      <p:sp>
        <p:nvSpPr>
          <p:cNvPr id="44"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South Wales has experienced both growth and decline as an industrial area.</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During the 19</a:t>
            </a:r>
            <a:r>
              <a:rPr b="0" lang="en-US" sz="3100" spc="-1" strike="noStrike" baseline="30000">
                <a:solidFill>
                  <a:srgbClr val="000000"/>
                </a:solidFill>
                <a:latin typeface="Calibri"/>
              </a:rPr>
              <a:t>th</a:t>
            </a:r>
            <a:r>
              <a:rPr b="0" lang="en-US" sz="3100" spc="-1" strike="noStrike">
                <a:solidFill>
                  <a:srgbClr val="000000"/>
                </a:solidFill>
                <a:latin typeface="Calibri"/>
              </a:rPr>
              <a:t> Century Southern Wales became a vitally important industrial area, for both iron and steel production.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steep valleys, with their fast flowing rivers, provided power and transport.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hills were rich with raw materials, such as coal, iron ore and limestone, and the area was close to the ports of Cardiff and Swansea.</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uth Wales</a:t>
            </a:r>
            <a:endParaRPr b="0" lang="en-US" sz="4400" spc="-1" strike="noStrike">
              <a:solidFill>
                <a:srgbClr val="000000"/>
              </a:solidFill>
              <a:latin typeface="Calibri"/>
            </a:endParaRPr>
          </a:p>
        </p:txBody>
      </p:sp>
      <p:sp>
        <p:nvSpPr>
          <p:cNvPr id="46"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 1860 there were over 30 iron works in the valleys of South Wales.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y provided vital employment for the local villages, which became almost solely dependent on the new industri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During the next 40 years improvements in the smelting process, meant that the production of iron was replaced by steel manufacture, which was more profitable.</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natural resources needed were the same.</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uth Wales</a:t>
            </a:r>
            <a:endParaRPr b="0" lang="en-US" sz="4400" spc="-1" strike="noStrike">
              <a:solidFill>
                <a:srgbClr val="000000"/>
              </a:solidFill>
              <a:latin typeface="Calibri"/>
            </a:endParaRPr>
          </a:p>
        </p:txBody>
      </p:sp>
      <p:sp>
        <p:nvSpPr>
          <p:cNvPr id="48" name=""/>
          <p:cNvSpPr txBox="1"/>
          <p:nvPr/>
        </p:nvSpPr>
        <p:spPr>
          <a:xfrm>
            <a:off x="45720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1990's only two steelworks were left in South Wales, and both of them were on the coas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ources had run out, only one coal-mine remained working and the many small works in the valleys had closed down, causing huge social proble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w works were integrated steel works, which imported their raw materials from abroa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aimed to make the industry more efficient and competitive in a growing world marke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only is there competition form other countries but also form other materials that are increasingly being used instead of stee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erials, such as aluminium and plastic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uth Wales</a:t>
            </a:r>
            <a:endParaRPr b="0" lang="en-US" sz="44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ample of one is the integrated steel works at </a:t>
            </a:r>
            <a:r>
              <a:rPr b="1" lang="en-US" sz="3200" spc="-1" strike="noStrike">
                <a:solidFill>
                  <a:srgbClr val="000000"/>
                </a:solidFill>
                <a:latin typeface="Calibri"/>
              </a:rPr>
              <a:t>Port Talbo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ned in 1954, it is an integrated steelworks, which is one in which all processes of the steel making industry occur under one roo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al and iron ore deposits of South Wales have long since run out or become too costly to get at, so both of these raw materials are imported from places such as Africa and South Amer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uth Wales</a:t>
            </a:r>
            <a:endParaRPr b="0" lang="en-US" sz="4400" spc="-1" strike="noStrike">
              <a:solidFill>
                <a:srgbClr val="000000"/>
              </a:solidFill>
              <a:latin typeface="Calibri"/>
            </a:endParaRPr>
          </a:p>
        </p:txBody>
      </p:sp>
      <p:sp>
        <p:nvSpPr>
          <p:cNvPr id="52"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ort Talbot</a:t>
            </a:r>
            <a:r>
              <a:rPr b="0" lang="en-US" sz="3200" spc="-1" strike="noStrike">
                <a:solidFill>
                  <a:srgbClr val="000000"/>
                </a:solidFill>
                <a:latin typeface="Calibri"/>
              </a:rPr>
              <a:t> has many locational advantages. There is a large area of flat land, near to the sea for importing and exporting purpo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ear by is a large workforce and access to the entire British market through the excellent motorway lin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has created employment opportunities in the area, and has encouraged further investment and grow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uth Wales</a:t>
            </a:r>
            <a:endParaRPr b="0" lang="en-US" sz="4400" spc="-1" strike="noStrike">
              <a:solidFill>
                <a:srgbClr val="000000"/>
              </a:solidFill>
              <a:latin typeface="Calibri"/>
            </a:endParaRPr>
          </a:p>
        </p:txBody>
      </p:sp>
      <p:sp>
        <p:nvSpPr>
          <p:cNvPr id="54" name=""/>
          <p:cNvSpPr txBox="1"/>
          <p:nvPr/>
        </p:nvSpPr>
        <p:spPr>
          <a:xfrm>
            <a:off x="457200" y="1599840"/>
            <a:ext cx="8229600" cy="5257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outh Wales</a:t>
            </a:r>
            <a:r>
              <a:rPr b="0" lang="en-US" sz="2900" spc="-1" strike="noStrike">
                <a:solidFill>
                  <a:srgbClr val="000000"/>
                </a:solidFill>
                <a:latin typeface="Calibri"/>
              </a:rPr>
              <a:t> is experiencing something of a recovery again, thanks to being at one end of the </a:t>
            </a:r>
            <a:r>
              <a:rPr b="1" lang="en-US" sz="2900" spc="-1" strike="noStrike">
                <a:solidFill>
                  <a:srgbClr val="000000"/>
                </a:solidFill>
                <a:latin typeface="Calibri"/>
              </a:rPr>
              <a:t>M4 Corridor</a:t>
            </a:r>
            <a:r>
              <a:rPr b="0" lang="en-US" sz="2900" spc="-1" strike="noStrike">
                <a:solidFill>
                  <a:srgbClr val="000000"/>
                </a:solidFill>
                <a:latin typeface="Calibri"/>
              </a:rPr>
              <a:t>. Industrial Parks have been established outside of the main cities, to benefit from the large workforce, good transport links and available land.</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re have also been government grants and loans made available to encourage industrial location in the area.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ompanies such as Sony, Bosch and Toyota have all re-located to South Wales.</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04:00:31Z</dcterms:created>
  <dc:creator>Dell_02</dc:creator>
  <dc:description/>
  <dc:language>en-US</dc:language>
  <cp:lastModifiedBy>Dell_02</cp:lastModifiedBy>
  <dcterms:modified xsi:type="dcterms:W3CDTF">2011-01-27T04:09:11Z</dcterms:modified>
  <cp:revision>1</cp:revision>
  <dc:subject/>
  <dc:title>Manufacturing Industry</dc:title>
</cp:coreProperties>
</file>